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1BD-BAE5-4A50-AC7F-0F2025E1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E65-7D89-4E61-A52F-8E07312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A20-113B-4651-8D05-ECBFB26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02B-01FC-4C31-B136-4BA95FA0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6EB-240F-4653-9E6B-B656ECE4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2DA-38CF-4F74-A6A3-8B0A10D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0A1-B000-49B1-9F81-41BC7167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16B-4564-4A2E-97A2-0A171AC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16E-E3CB-4300-BB09-A242F17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C45-2DB0-43C5-8E41-FA930FB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6DF-6F44-416E-B8FC-E9547AD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58C-9C52-4542-B841-EC5C17A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3C9-37DE-464B-AFA7-228E227E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9:51:18Z</dcterms:created>
  <dc:creator>Grupo Editorial</dc:creator>
  <dc:description/>
  <dc:language>en-US</dc:language>
  <cp:lastModifiedBy>Grupo Editorial</cp:lastModifiedBy>
  <dcterms:modified xsi:type="dcterms:W3CDTF">2001-11-13T09:53:29Z</dcterms:modified>
  <cp:revision>1</cp:revision>
  <dc:subject/>
  <dc:title>Sin título de diapositiva</dc:title>
</cp:coreProperties>
</file>